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416A-B88C-4B95-8307-3A844CDAA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F90A-46F5-499B-9C76-86B7E34B9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64A6E-EEA2-4F79-A7A0-341A6C5FE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FBD13-F436-43CE-BB51-51F0B4B27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B4B79-6581-4A8B-BF1F-AFA5C781D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F8779-7DB0-4E66-8595-D08408E3B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01189-66DD-45C7-AD8D-A84101BAE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9BF8A-A5C0-442D-8570-F2A8F964B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458F5-20DD-4826-9B81-5B142CE9C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B5E62-84FA-4848-9118-CFD1D9370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D0FF6-F9BF-49ED-BAA9-E2E5B694E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991A-85DC-4C3F-A3EF-0CF95EF1B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6BC8B-1872-4435-8B3D-4C78230F8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61602-0989-4F82-B6A2-B39DD561B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D2635-D138-4ED0-B133-25ECAD52B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6A0F1-6F16-431E-B9A1-D08AD090E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4F52D-D518-4AFE-9323-527671530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3E9DB-03F0-4A99-B8D9-601A6806C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A5DAE-6EED-4C5F-B4DD-F95A16C61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62F0F-674C-43F1-8B76-B1F71026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117F-B25A-4BE6-9782-BEF21452B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D383F-1F22-4DF4-B732-1DFA089CC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4852-F2C2-4D0C-B83B-792CC09C9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42D0-2671-4D5E-BCA9-3E33C80C5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E0C2-F3B4-4B58-9431-76517AEC7BB8}"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291E-ADC5-4079-8A9E-8A1F5FCA8C18}"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66"/>
                </a:solidFill>
                <a:latin typeface="Verdana"/>
              </a:rPr>
              <a:t>DOL</a:t>
            </a:r>
            <a:endParaRPr b="0" lang="en-US" sz="8000" spc="-1" strike="noStrike">
              <a:solidFill>
                <a:srgbClr val="006666"/>
              </a:solidFill>
              <a:latin typeface="Verdana"/>
            </a:endParaRPr>
          </a:p>
        </p:txBody>
      </p:sp>
      <p:sp>
        <p:nvSpPr>
          <p:cNvPr id="16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Verdana"/>
              </a:rPr>
              <a:t>She owed me two dollars and seventy five cents</a:t>
            </a:r>
            <a:r>
              <a:rPr b="0" lang="en-US" sz="4400" spc="-1" strike="noStrike">
                <a:solidFill>
                  <a:srgbClr val="006699"/>
                </a:solidFill>
                <a:latin typeface="Verdana"/>
              </a:rPr>
              <a:t>.</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nswer</a:t>
            </a:r>
            <a:endParaRPr b="0" lang="en-US" sz="4400" spc="-1" strike="noStrike">
              <a:solidFill>
                <a:srgbClr val="006666"/>
              </a:solidFill>
              <a:latin typeface="Verdana"/>
            </a:endParaRPr>
          </a:p>
        </p:txBody>
      </p:sp>
      <p:sp>
        <p:nvSpPr>
          <p:cNvPr id="16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She owed me $2.75.</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use numerals to express amounts of money, decimals and percent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minutes</a:t>
            </a:r>
            <a:endParaRPr b="0" lang="en-US" sz="3200" spc="-1" strike="noStrike">
              <a:solidFill>
                <a:srgbClr val="006699"/>
              </a:solidFill>
              <a:latin typeface="Verdana"/>
            </a:endParaRPr>
          </a:p>
          <a:p>
            <a:pPr marL="343080" indent="-343080">
              <a:lnSpc>
                <a:spcPct val="90000"/>
              </a:lnSpc>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Given the ability to project yourself into the past but not return, would you do so? Where would you go and what would you try to accomplish if you knew you might be able to change the course of history?</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nd a synonym for the following:</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ffluen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ar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avish</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leec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n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following in sentence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varic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ucrativ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ve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owry</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n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Great Gatsby</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ith a partner find 3 quotes from chapter 4 that are important.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the quote down and why its importa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atsby</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ad pg. 68</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  </a:t>
            </a:r>
            <a:r>
              <a:rPr b="0" lang="en-US" sz="4000" spc="-1" strike="noStrike">
                <a:solidFill>
                  <a:srgbClr val="006699"/>
                </a:solidFill>
                <a:latin typeface="Verdana"/>
              </a:rPr>
              <a:t>Writing assignment: </a:t>
            </a:r>
            <a:endParaRPr b="0" lang="en-US" sz="40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  </a:t>
            </a:r>
            <a:r>
              <a:rPr b="0" lang="en-US" sz="4000" spc="-1" strike="noStrike">
                <a:solidFill>
                  <a:srgbClr val="006699"/>
                </a:solidFill>
                <a:latin typeface="Verdana"/>
              </a:rPr>
              <a:t>Think about your dream car.   What would owning this car </a:t>
            </a:r>
            <a:endParaRPr b="0" lang="en-US" sz="40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  </a:t>
            </a:r>
            <a:r>
              <a:rPr b="0" lang="en-US" sz="4000" spc="-1" strike="noStrike">
                <a:solidFill>
                  <a:srgbClr val="006699"/>
                </a:solidFill>
                <a:latin typeface="Verdana"/>
              </a:rPr>
              <a:t>say about you? 1par.</a:t>
            </a:r>
            <a:endParaRPr b="0" lang="en-US" sz="40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ad out loud</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atsby</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o essa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4:14:46Z</dcterms:created>
  <dc:creator>rebecca</dc:creator>
  <dc:description/>
  <dc:language>en-US</dc:language>
  <cp:lastModifiedBy>rebecca</cp:lastModifiedBy>
  <dcterms:modified xsi:type="dcterms:W3CDTF">2009-02-25T14:33:42Z</dcterms:modified>
  <cp:revision>2</cp:revision>
  <dc:subject/>
  <dc:title>DOL</dc:title>
</cp:coreProperties>
</file>